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EB9-AE90-4077-BDEB-3A187A8E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D43-F18B-46CB-9BCF-827EDBBC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FE0-6EB1-40D9-A768-7B8D8500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565-A7CD-4F47-BCFA-67C5FEB6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7A9-12C3-4788-A778-3F60C247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C69-FF6E-4287-A450-A3D28D3B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297-22E1-43A8-B816-F03280A0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867-62A6-44E9-98F0-D98EDB04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B59-2213-49B3-8B32-C9F6F439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2DF-D6F9-4382-A9A0-EE616EC7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73D-3043-4F8D-8810-EC1B2197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E1A-406F-45A5-A330-B4F2A5AB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056E-46DC-426A-A3CF-BC4E46AA8E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5e5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1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44" name="Group 3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45" name="Group 9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46" name="Group 7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47" name="Freeform 4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6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" name="Freeform 8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23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52" name="Group 13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53" name="Freeform 10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1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2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Freeform 14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5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6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17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8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9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0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1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2"/>
                <p:cNvSpPr/>
                <p:nvPr/>
              </p:nvSpPr>
              <p:spPr>
                <a:xfrm>
                  <a:off x="7061040" y="914400"/>
                  <a:ext cx="262080" cy="376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Group 32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66" name="Freeform 24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" name="Group 29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68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69" name="Freeform 25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Freeform 26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" name="Freeform 28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Freeform 30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1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Group 40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75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HAPTER 4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Experience of Empi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ghteenth-Century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h of Political Cul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Colonists attempted to emulate British political institu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Effort led to discovery of how different they were from English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Example: Royal gover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owers than king in En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 legis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miss jud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 provincial 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NOT 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Geneva"/>
              </a:rPr>
              <a:t>Colonial Assemblies/Legisl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Middle-class democrac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Primary function was to prevent the encroachments on the people’s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Assemblies controlled colony’s fin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No incentive for assembly to cooperate with governors (sometimes even hostile toward th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Exercised extreme vigilance against the spread of privileged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ury of Imperial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ain’s conflicts with continental rivals like France spilled over to colo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threats from these conflicts forced colonists into more military and political 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colonies overwhelmingly militarily superior to New France but ineff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America, 17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IVI7233078"/>
          <p:cNvPicPr/>
          <p:nvPr/>
        </p:nvPicPr>
        <p:blipFill>
          <a:blip r:embed="rId2"/>
          <a:srcRect l="1581" t="1540" r="2072" b="1540"/>
          <a:stretch/>
        </p:blipFill>
        <p:spPr>
          <a:xfrm>
            <a:off x="2286000" y="1752480"/>
            <a:ext cx="464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Century of Conflict: Major Wars, 1689–17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9" descr="DIVI"/>
          <p:cNvPicPr/>
          <p:nvPr/>
        </p:nvPicPr>
        <p:blipFill>
          <a:blip r:embed="rId2"/>
          <a:srcRect l="17426" t="53535" r="21972" b="22859"/>
          <a:stretch/>
        </p:blipFill>
        <p:spPr>
          <a:xfrm>
            <a:off x="457200" y="1676520"/>
            <a:ext cx="8381880" cy="50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 Years’ War/French and Indian W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Wars fought for control of the Mississippi River and Ohio River Vall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Prime Minister William Pitt shifted strategy to focus on North America (reason for vict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Peace of Paris 1763: France 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tish got all North America east of Mississip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nch retained two Caribbea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This particular war had the greatest impact on the colonies politically and economical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 Years’ War, 1756–17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DIVI7233082"/>
          <p:cNvPicPr/>
          <p:nvPr/>
        </p:nvPicPr>
        <p:blipFill>
          <a:blip r:embed="rId2"/>
          <a:srcRect l="1188" t="1575" r="1188" b="2557"/>
          <a:stretch/>
        </p:blipFill>
        <p:spPr>
          <a:xfrm>
            <a:off x="1447920" y="1981080"/>
            <a:ext cx="6248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Geneva"/>
              </a:rPr>
              <a:t>Albany Cong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eneva"/>
              </a:rPr>
              <a:t>Albany Congress, 17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eneva"/>
              </a:rPr>
              <a:t>Benjamin Franklin’s idea of central colonial governm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cted representatives decide on matters of defense, western expansion, and relations with Native Americ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ld levy taxes to support its oper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eneva"/>
              </a:rPr>
              <a:t>Albany Plan failed, disliked by English and Americ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Content Placeholder 6" descr=""/>
          <p:cNvPicPr/>
          <p:nvPr/>
        </p:nvPicPr>
        <p:blipFill>
          <a:blip r:embed="rId2"/>
          <a:srcRect l="0" t="-29364" r="0" b="-2936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ceptions of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eneva"/>
              </a:rPr>
              <a:t>Made colonists aware of their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eneva"/>
              </a:rPr>
              <a:t>Created trained officer corps that knew British vulner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eneva"/>
              </a:rPr>
              <a:t>Colonists saw themselves as “junior partners” to Brit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eneva"/>
              </a:rPr>
              <a:t>British felt colonists ungrateful and not willing to bear their fair share of bu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America after 17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DIVI7233084"/>
          <p:cNvPicPr/>
          <p:nvPr/>
        </p:nvPicPr>
        <p:blipFill>
          <a:blip r:embed="rId2"/>
          <a:srcRect l="1616" t="1562" r="1414" b="1562"/>
          <a:stretch/>
        </p:blipFill>
        <p:spPr>
          <a:xfrm>
            <a:off x="2286000" y="1752480"/>
            <a:ext cx="457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b0511"/>
                </a:solidFill>
                <a:latin typeface="Calibri"/>
              </a:rPr>
              <a:t>Growth and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440" y="15998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  <a:ea typeface="Geneva"/>
              </a:rPr>
              <a:t>1700-1750—colonial population rose from 250,000 to over two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  <a:ea typeface="Geneva"/>
              </a:rPr>
              <a:t>Much growth through natural incre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  <a:ea typeface="Geneva"/>
              </a:rPr>
              <a:t>Large influx of non-English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Scots-Irish Flee English O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Germans Search for a Better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Convict Settl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tribution of European and African Immigrants in the Thirteen Colon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DIVI7233063"/>
          <p:cNvPicPr/>
          <p:nvPr/>
        </p:nvPicPr>
        <p:blipFill>
          <a:blip r:embed="rId2"/>
          <a:srcRect l="0" t="0" r="1411" b="0"/>
          <a:stretch/>
        </p:blipFill>
        <p:spPr>
          <a:xfrm>
            <a:off x="2666880" y="19051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b0511"/>
                </a:solidFill>
                <a:latin typeface="Calibri"/>
              </a:rPr>
              <a:t>Native Americans Stake Out a Middle 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0511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Disease and European settled agricultural practices made it difficult for Europeans and Natives to co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b0511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Many eastern Indians moved into trans-Appalachian region (Middle Grou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Native Americans continued to trade with Europeans for metal goods and weap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Play English and French against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Spanish Borderland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. 177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IVI7233069"/>
          <p:cNvPicPr/>
          <p:nvPr/>
        </p:nvPicPr>
        <p:blipFill>
          <a:blip r:embed="rId1"/>
          <a:srcRect l="931" t="1861" r="506" b="1436"/>
          <a:stretch/>
        </p:blipFill>
        <p:spPr>
          <a:xfrm>
            <a:off x="609480" y="220968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b0511"/>
                </a:solidFill>
                <a:latin typeface="Calibri"/>
              </a:rPr>
              <a:t>Economic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9560" y="1904760"/>
            <a:ext cx="7724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  <a:ea typeface="Geneva"/>
              </a:rPr>
              <a:t>Long-term period of economic and 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Economies were geared to commerce, not manufactu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Trade was mainly with England and West Indies (West Indies provided merchants with profits that offset their British deb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  <a:ea typeface="Geneva"/>
              </a:rPr>
              <a:t>English mass-production of consumer goods stimulated rise in colonial impor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Inhabitants emulated English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  <a:ea typeface="Geneva"/>
              </a:rPr>
              <a:t>Trade between colonies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reat Wagon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DIVI7233075"/>
          <p:cNvPicPr/>
          <p:nvPr/>
        </p:nvPicPr>
        <p:blipFill>
          <a:blip r:embed="rId1"/>
          <a:srcRect l="2867" t="1562" r="2791" b="1562"/>
          <a:stretch/>
        </p:blipFill>
        <p:spPr>
          <a:xfrm>
            <a:off x="2590920" y="1752480"/>
            <a:ext cx="3809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Enlighte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Intellectual movement that swept Europe with new, radical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R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ing for useful, practical knowledg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The Enlightenment’s basic assump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mistic view of human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d set up the universe and human society to operate by natural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Mixed reception 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Geneva"/>
              </a:rPr>
              <a:t>Religious Reviv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The Great Awake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ntaneous, evangelical revivals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eaken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authority of the old colonial reli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began to re-think basic assumptions about church and state, institutions and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nathan Edwards emphasized the Calvinistic teachings of the Puritans (the importance of personal religious experi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wakening promoted a democratic, religious union of national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stered sense of American unity/ident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2:41:04Z</dcterms:created>
  <dc:creator/>
  <dc:description/>
  <dc:language>en-US</dc:language>
  <cp:lastModifiedBy>Buffalo Grive High School</cp:lastModifiedBy>
  <dcterms:modified xsi:type="dcterms:W3CDTF">2010-09-08T13:56:22Z</dcterms:modified>
  <cp:revision>22</cp:revision>
  <dc:subject/>
  <dc:title>CHAPTER 4 Experience of Empire: Eighteenth-Century America</dc:title>
</cp:coreProperties>
</file>